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3.pct" ContentType="image/x-pict"/>
  <Override PartName="/ppt/media/image10.pct" ContentType="image/x-pict"/>
  <Override PartName="/ppt/media/image8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16.pct" ContentType="image/x-pict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10236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251C-46FC-4C5A-8631-E71E1274C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- hypercoagulable, steroids, infl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ith SLE have 7-50 fold increased risk of CHD, greatest in young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ith RA have 1.13 - 5.25 fold increase in risk of C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on HAART - not all accounted for by induced hyperlipi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mark sign - a dilatation of the pulmonary vessels proximal to an embolism along with collapse of distal vessels - 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ients develop atelectasis that may progress to small pl eff and elevated hemi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4-72 hours 1/3 of patients develop focal infiltrates indistinguishable from pneu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pton hump, a triangular or rounded pleural-based infiltrate with the apex pointed toward the hilum, frequently located adjacent to the diaphragm – LATE and R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872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872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4480" y="228600"/>
            <a:ext cx="8224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143000"/>
            <a:ext cx="10274400" cy="152280"/>
            <a:chOff x="0" y="1143000"/>
            <a:chExt cx="10274400" cy="152280"/>
          </a:xfrm>
        </p:grpSpPr>
        <p:sp>
          <p:nvSpPr>
            <p:cNvPr id="1" name="Rectangle 2"/>
            <p:cNvSpPr/>
            <p:nvPr/>
          </p:nvSpPr>
          <p:spPr>
            <a:xfrm>
              <a:off x="0" y="1143000"/>
              <a:ext cx="1027440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1257480"/>
              <a:ext cx="10274400" cy="37800"/>
            </a:xfrm>
            <a:prstGeom prst="rect">
              <a:avLst/>
            </a:prstGeom>
            <a:gradFill rotWithShape="0">
              <a:gsLst>
                <a:gs pos="0">
                  <a:srgbClr val="976080"/>
                </a:gs>
                <a:gs pos="50000">
                  <a:srgbClr val="d989b8"/>
                </a:gs>
                <a:gs pos="100000">
                  <a:srgbClr val="976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76120">
              <a:spcBef>
                <a:spcPts val="799"/>
              </a:spcBef>
              <a:buClr>
                <a:srgbClr val="8cf4ea"/>
              </a:buClr>
              <a:buSzPct val="79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0840" indent="-29844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5880" indent="-250920">
              <a:spcBef>
                <a:spcPts val="799"/>
              </a:spcBef>
              <a:buClr>
                <a:srgbClr val="00689d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Evaluation of Chest Pain in the Emergency Departmen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09200" y="4302000"/>
            <a:ext cx="36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RMC Emergenc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Nitroglycerine in ER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066680" y="1752480"/>
            <a:ext cx="82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ls of Internal Medici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993600" y="3962520"/>
            <a:ext cx="7678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adian Journal of Emergency Medicine 200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% Sens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7%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384880" y="31561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Intern Med. 2003;139:979-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5411880" y="544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J Emerg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;8(3):16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M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980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 surgery, tra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buse - alcohol, cigarettes, meth/c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T/PE/Aortic dissection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fan’s/connective tissue dz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tions - HAART, estr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3400" y="5943600"/>
            <a:ext cx="46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Rheum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0;59;321-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Engl J Med 2007 Apr 26;356(17):1723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hysical Exam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9296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signs - Hypoxia? Tachycardia? Hyperten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earance - Marfanoi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otids and JVP, check neck for crep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cage - Trauma? Pectus excavatu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exam - Hepatomegal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phery - symmetric pulses? edem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- dermatomal ra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hysical Sign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03" name="Object 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97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20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2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1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353040" cy="21081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2" descr=""/>
          <p:cNvPicPr/>
          <p:nvPr/>
        </p:nvPicPr>
        <p:blipFill>
          <a:blip r:embed="rId4"/>
          <a:stretch/>
        </p:blipFill>
        <p:spPr>
          <a:xfrm>
            <a:off x="7162920" y="1486080"/>
            <a:ext cx="2819160" cy="234144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5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239220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6" descr=""/>
          <p:cNvPicPr/>
          <p:nvPr/>
        </p:nvPicPr>
        <p:blipFill>
          <a:blip r:embed="rId6"/>
          <a:stretch/>
        </p:blipFill>
        <p:spPr>
          <a:xfrm>
            <a:off x="6858000" y="4114800"/>
            <a:ext cx="28195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aborato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G - 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t x-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nzy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ver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-Di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g: Ultrasound, CT, Nuclear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7a5"/>
                </a:solidFill>
                <a:latin typeface="Arial"/>
              </a:rPr>
              <a:t>EKG Findings in Adult Patients with Chest Pain: Association with Ischemic Events</a:t>
            </a:r>
            <a:endParaRPr b="1" lang="en-US" sz="30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19320" y="2057400"/>
          <a:ext cx="766584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6658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7a5"/>
                </a:solidFill>
                <a:latin typeface="Arial"/>
              </a:rPr>
              <a:t>Adverse Cardiac Events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b7a5"/>
                </a:solidFill>
                <a:latin typeface="Arial"/>
              </a:rPr>
              <a:t>(12 mo out)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3520" y="1523880"/>
            <a:ext cx="94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7a5"/>
                </a:solidFill>
                <a:latin typeface="Arial"/>
              </a:rPr>
              <a:t>Patients discharged with chest pain of unclear orig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066680" y="2590920"/>
            <a:ext cx="83822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Abnormal ECG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9.5 (2.0 - 45.8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DM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7.1 (1.8 - 27.2)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CAD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28.4 (3.5 - 229.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2578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Emerg Med. 2004 Jan;43(1):59-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Arial"/>
              </a:rPr>
              <a:t>Potential Underlying Causes of ACS</a:t>
            </a:r>
            <a:endParaRPr b="1" lang="en-US" sz="36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7000" y="1701720"/>
            <a:ext cx="77623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hyarrhythm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e anemia/acute hemorrh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tion withdraw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ulant substance ab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erthyroid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ost-op Chest Pain and SOB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96960" y="1981080"/>
            <a:ext cx="4279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yo man 10 days following C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d acute dyspnea and right-sided chest pain on 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 revealed tachypnea, tachycardia, and hypox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nmlcxr"/>
          <p:cNvPicPr/>
          <p:nvPr/>
        </p:nvPicPr>
        <p:blipFill>
          <a:blip r:embed="rId1"/>
          <a:stretch/>
        </p:blipFill>
        <p:spPr>
          <a:xfrm>
            <a:off x="5943600" y="1447920"/>
            <a:ext cx="2438280" cy="226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3" name="Picture 6" descr="cabgpna"/>
          <p:cNvPicPr/>
          <p:nvPr/>
        </p:nvPicPr>
        <p:blipFill>
          <a:blip r:embed="rId2"/>
          <a:stretch/>
        </p:blipFill>
        <p:spPr>
          <a:xfrm>
            <a:off x="6019920" y="4038480"/>
            <a:ext cx="22906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" name="Rectangle 7"/>
          <p:cNvSpPr/>
          <p:nvPr/>
        </p:nvSpPr>
        <p:spPr>
          <a:xfrm>
            <a:off x="884016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711640" y="4486320"/>
            <a:ext cx="10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 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pl 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tudies in suspected P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5029200" y="4038480"/>
            <a:ext cx="49528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 Evide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chycardia - sinus, afib or aflut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V Stra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1, Q3, T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 R wave prog + TWI V1-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029200" y="5638680"/>
            <a:ext cx="49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D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fu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l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226080" y="1371600"/>
            <a:ext cx="43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XR in PE virtually always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mark sign -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75480" y="4876920"/>
            <a:ext cx="410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lectasis, small pleural effus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ed hemidiaphragm may de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-72 hours – focal infil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7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81952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32" name="Object 28"/>
          <p:cNvGraphicFramePr/>
          <p:nvPr/>
        </p:nvGraphicFramePr>
        <p:xfrm>
          <a:off x="6553080" y="2057400"/>
          <a:ext cx="13147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057400"/>
                    <a:ext cx="1314720" cy="1752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Rectangle 29"/>
          <p:cNvSpPr/>
          <p:nvPr/>
        </p:nvSpPr>
        <p:spPr>
          <a:xfrm>
            <a:off x="5557320" y="152388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pton hump – LATE &amp;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8" name="Rectangle 91"/>
          <p:cNvSpPr/>
          <p:nvPr/>
        </p:nvSpPr>
        <p:spPr>
          <a:xfrm>
            <a:off x="4114800" y="5943600"/>
            <a:ext cx="5908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1523880" y="1905120"/>
            <a:ext cx="73915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n estim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ual 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for “non-traumatic chest pain” by ad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25 in the 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7 visits per 1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ute Cardiac Insufficienc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estimat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account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these non-traumat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st pain visits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464832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5"/>
          <p:cNvSpPr/>
          <p:nvPr/>
        </p:nvSpPr>
        <p:spPr>
          <a:xfrm>
            <a:off x="4649760" y="5943600"/>
            <a:ext cx="5016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Burt CW. Am J Emerg Med. 1999 Oct;17(6):552-9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cute Upper Back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8680" y="167652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 yo man with long standing hyper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mid back and interscapular p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with nausea and sw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elieved by change of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adiation toward the left ch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ject 23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657600" cy="32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8" name="Rectangle 24"/>
          <p:cNvSpPr/>
          <p:nvPr/>
        </p:nvSpPr>
        <p:spPr>
          <a:xfrm>
            <a:off x="5699520" y="547380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mediastinum -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838080" y="1752480"/>
            <a:ext cx="8305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dden severe pa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ng pai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ring p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% (spec.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tens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astolic murmu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lse deficits or BP differentia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cal neurologic defici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cop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G criteria for AM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114800" y="5791320"/>
            <a:ext cx="56386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lompas et al, JAMA 2002; 287:2262-227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llamothy et al, Am J Med 2002; 113:468-47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7a5"/>
                </a:solidFill>
                <a:latin typeface="Arial"/>
              </a:rPr>
              <a:t>Aortic Dissection: clinical presentation</a:t>
            </a:r>
            <a:endParaRPr b="1" lang="en-US" sz="3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: etiolog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alence of major risk factor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-9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cuspid A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-13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fan syndr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2"/>
          <p:cNvSpPr/>
          <p:nvPr/>
        </p:nvSpPr>
        <p:spPr>
          <a:xfrm>
            <a:off x="1066680" y="304920"/>
            <a:ext cx="822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7a5"/>
                </a:solidFill>
                <a:latin typeface="Arial"/>
              </a:rPr>
              <a:t>Radiographic Signs of Thoracic Aortic Dis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ies suggest up to 90% of patients will have “abnormal” CXR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ned mediastinum (&gt;8cm on AP film) [50-65%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pleural effusion (hemothora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Sign (displaced intimal calcification &gt;5m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red aortic kn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l deviation to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phageal deviation to the Right (seen via NG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pical 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ed Left mainstem bronch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paratracheal str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2516400" y="60199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gg 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sitivity of a normal chest radiograph in ruling out aortic diss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vidence Topics. 9 March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930400" y="1523880"/>
            <a:ext cx="4375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Wrestl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280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yo high school wrestler develops right-sided chest pain while pinning his oppon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51688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2" name="Rectangle 5"/>
          <p:cNvSpPr/>
          <p:nvPr/>
        </p:nvSpPr>
        <p:spPr>
          <a:xfrm>
            <a:off x="617256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lcoholic with Chest Pain and Coug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yo alcoholic man with fever, chills and productive cough over two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4572000" y="1523880"/>
            <a:ext cx="4952880" cy="4572000"/>
            <a:chOff x="4572000" y="1523880"/>
            <a:chExt cx="4952880" cy="4572000"/>
          </a:xfrm>
        </p:grpSpPr>
        <p:pic>
          <p:nvPicPr>
            <p:cNvPr id="156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952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5"/>
            <p:cNvSpPr/>
            <p:nvPr/>
          </p:nvSpPr>
          <p:spPr>
            <a:xfrm>
              <a:off x="4658040" y="1563840"/>
              <a:ext cx="4768200" cy="44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7"/>
          <p:cNvSpPr/>
          <p:nvPr/>
        </p:nvSpPr>
        <p:spPr>
          <a:xfrm>
            <a:off x="6197760" y="61009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Hyperemesis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2562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yo G1P0 at 10wks presents with 4 days refractory emesis and 12 hours progressive, severe substernal chest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ject 13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809880" cy="408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2" name="Rectangle 14"/>
          <p:cNvSpPr/>
          <p:nvPr/>
        </p:nvSpPr>
        <p:spPr>
          <a:xfrm>
            <a:off x="4875120" y="6095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mediastinum - Boerhaav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mok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4279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 yo former smoker with persistant, non-exertional, left substernal and left shoulder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10"/>
          <p:cNvGraphicFramePr/>
          <p:nvPr/>
        </p:nvGraphicFramePr>
        <p:xfrm>
          <a:off x="5334120" y="1676520"/>
          <a:ext cx="4047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76520"/>
                    <a:ext cx="4047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9805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differs from chest pain in primary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ll serious chest pain is A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is of chest pain in the ED is rarely straight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is a high-stakes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0600" y="2103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295280" y="1447920"/>
            <a:ext cx="74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FG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visits in patients &gt;3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or “non-traumatic chest pa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hospitalized, 45%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received significant diagno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 or Stable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Pulmonary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01680" y="6172200"/>
            <a:ext cx="495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Kohn MA, et al. J Emerg Med. 2005;29(4):383-9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45520" y="5486400"/>
            <a:ext cx="875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sits with serious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alcul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arting Word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59984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ither NTG nor GI cocktail response, nor reproducibility on palpation are diagno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prandial pain may be ischem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aution when diagnosing “non-cardiac” chest pain in patients with CAD 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ypical may be typical of something el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ful history and physical are imper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 can be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667320" y="1523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447920" y="266688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0% of malpractice suits f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0% of the dollars paid ou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practice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67400" y="60958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erg Med News. 2006: 28(2); 2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b7a5"/>
                </a:solidFill>
                <a:latin typeface="Arial"/>
              </a:rPr>
              <a:t>Proportion of final diagnoses in patients presenting with CP</a:t>
            </a:r>
            <a:endParaRPr b="1" lang="en-US" sz="31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691080" y="279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2736720" y="1371600"/>
          <a:ext cx="436104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1371600"/>
                    <a:ext cx="4361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6"/>
          <p:cNvSpPr/>
          <p:nvPr/>
        </p:nvSpPr>
        <p:spPr>
          <a:xfrm>
            <a:off x="6858000" y="632448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mily Practice.  2001;18(6):586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HPI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: pattern (temporal sequen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associated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B, N/V, diaphor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, cough, ch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logic sympto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:  initiation and impr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: nature (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oca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3276720" y="1676520"/>
            <a:ext cx="3949560" cy="4432320"/>
            <a:chOff x="3276720" y="1676520"/>
            <a:chExt cx="3949560" cy="4432320"/>
          </a:xfrm>
        </p:grpSpPr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3276720" y="1676520"/>
              <a:ext cx="39495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5"/>
            <p:cNvSpPr/>
            <p:nvPr/>
          </p:nvSpPr>
          <p:spPr>
            <a:xfrm>
              <a:off x="3367080" y="1720800"/>
              <a:ext cx="37558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7"/>
          <p:cNvSpPr/>
          <p:nvPr/>
        </p:nvSpPr>
        <p:spPr>
          <a:xfrm>
            <a:off x="7467480" y="1371600"/>
            <a:ext cx="27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uri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H="1">
            <a:off x="6478200" y="1830240"/>
            <a:ext cx="988920" cy="53208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390080" y="2971800"/>
            <a:ext cx="2668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vical s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racic out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7012080" y="3430440"/>
            <a:ext cx="379440" cy="379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314840" y="4572000"/>
            <a:ext cx="2750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enic infar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 flipH="1" flipV="1">
            <a:off x="5944680" y="4954320"/>
            <a:ext cx="1141560" cy="53172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80520" y="1447920"/>
            <a:ext cx="27507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rhave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973240" y="2211480"/>
            <a:ext cx="2360880" cy="1522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32440" y="4114800"/>
            <a:ext cx="2738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ys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2973240" y="4726080"/>
            <a:ext cx="1598760" cy="22680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3659040" y="4876920"/>
            <a:ext cx="1598760" cy="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796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ear cut alternative diagnosi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447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given a clear-cut alternative non-cardiac diagn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00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ignificantly lower risk of revascularization, MI or death in the subsequen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with 4% event rate a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65360" y="5965920"/>
            <a:ext cx="469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ad Emerg Med. 2007 Mar; 14(3):210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aracter of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87" name="Object 293"/>
          <p:cNvGraphicFramePr/>
          <p:nvPr/>
        </p:nvGraphicFramePr>
        <p:xfrm>
          <a:off x="2286000" y="1703520"/>
          <a:ext cx="5683320" cy="46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Object 2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03520"/>
                    <a:ext cx="56833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294"/>
          <p:cNvSpPr/>
          <p:nvPr/>
        </p:nvSpPr>
        <p:spPr>
          <a:xfrm>
            <a:off x="72388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95"/>
          <p:cNvSpPr/>
          <p:nvPr/>
        </p:nvSpPr>
        <p:spPr>
          <a:xfrm>
            <a:off x="6964200" y="63244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MA 2005; 294:262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96"/>
          <p:cNvSpPr/>
          <p:nvPr/>
        </p:nvSpPr>
        <p:spPr>
          <a:xfrm>
            <a:off x="657360" y="27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Rachel Steinhart</dc:creator>
  <dc:description/>
  <cp:keywords/>
  <dc:language>en-US</dc:language>
  <cp:lastModifiedBy>Steinhart Rachel</cp:lastModifiedBy>
  <cp:lastPrinted>2009-10-01T01:13:32Z</cp:lastPrinted>
  <dcterms:modified xsi:type="dcterms:W3CDTF">2015-09-22T23:52:45Z</dcterms:modified>
  <cp:revision>71</cp:revision>
  <dc:subject/>
  <dc:title>Evaluation of Chest Pain</dc:title>
</cp:coreProperties>
</file>